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8627A-F033-4D2F-932F-1913957BA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23BCE-F5CF-48DB-96B8-1172A929E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D73C9-7A9D-4297-92B4-C796BB2DC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368D0-53C8-4063-A0F8-EDBF57B32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79E13-DF27-464D-BD0E-424551832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35BC2-AA64-4272-9D14-D7035E56D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423AB-DB4A-4F6D-8833-3DBF384BD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50009-5CF0-4553-BDA5-E06909F4E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6EAC0-FBB6-423A-B4A0-7E3A83520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F36B1-62C9-49A8-B561-9D2B09A97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C0293-347B-4185-8570-C31A67B8C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63197-3B1E-4AD9-B173-43A45277D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8343B-5AFF-40FB-ACE5-53ADAAC16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B9E4B-0D10-4661-822B-212E663AC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31C9A-F26C-4FAF-BF01-AA158DFFA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CEF1F-F3E7-4430-97D6-D3621524E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E3F3B-DC24-480A-917A-81A2237FD1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503CD-A031-4D85-8B8B-D77E7DAE8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9B211-95B7-4145-956D-F450C33A3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D7715-D3FA-493F-ACD0-557D1B508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3484E-CF5C-47F0-AFE1-83274ADB1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6D098-C46F-4BD1-8365-B5CF921A8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5B8B8-DF2C-44DF-8D6D-117FD6C8F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D704A-4C2F-4E0E-BBCE-1029F8534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DAF7-2666-41DE-8AA3-249623D374AD}" type="slidenum">
              <a:rPr b="0" lang="bs-B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3D2B-8C9A-41B1-A205-0A4EFD33573E}" type="slidenum">
              <a:rPr b="0" lang="bs-B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a:t>
            </a:r>
            <a:r>
              <a:rPr b="0" lang="bs-BA" sz="4400" spc="-1" strike="noStrike" u="sng">
                <a:solidFill>
                  <a:srgbClr val="000000"/>
                </a:solidFill>
                <a:uFillTx/>
                <a:latin typeface="Arial"/>
              </a:rPr>
              <a:t>omeopatij</a:t>
            </a:r>
            <a:r>
              <a:rPr b="0" lang="en-US" sz="4400" spc="-1" strike="noStrike" u="sng">
                <a:solidFill>
                  <a:srgbClr val="000000"/>
                </a:solidFill>
                <a:uFillTx/>
                <a:latin typeface="Arial"/>
              </a:rPr>
              <a:t>a</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f. Dragana Ignjatović Risti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ckground</a:t>
            </a:r>
            <a:endParaRPr b="0" lang="en-US" sz="3800" spc="-1" strike="noStrike">
              <a:solidFill>
                <a:srgbClr val="000000"/>
              </a:solidFill>
              <a:latin typeface="Arial"/>
            </a:endParaRPr>
          </a:p>
        </p:txBody>
      </p:sp>
      <p:sp>
        <p:nvSpPr>
          <p:cNvPr id="11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is a scientific discipline whose goal is to activate the immune system and stimulate the body's natural capacity for self-healing and self-defens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ic therapy does not suppress the symptoms by which the body tries to restore its natural balanc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discovers and applies substances that are identical to the body's energy, therefore a minimum amount of vital energy is required in order for the body to respond to homeopathic trea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Samuel Haneman</a:t>
            </a:r>
            <a:r>
              <a:rPr b="0" lang="sr-Latn-RS" sz="3800" spc="-1" strike="noStrike">
                <a:solidFill>
                  <a:srgbClr val="555555"/>
                </a:solidFill>
                <a:latin typeface="Arial"/>
              </a:rPr>
              <a:t>, </a:t>
            </a:r>
            <a:r>
              <a:rPr b="0" lang="en-GB" sz="3800" spc="-1" strike="noStrike">
                <a:solidFill>
                  <a:srgbClr val="555555"/>
                </a:solidFill>
                <a:latin typeface="Arial"/>
              </a:rPr>
              <a:t>Organon</a:t>
            </a:r>
            <a:r>
              <a:rPr b="0" lang="sr-Latn-RS" sz="3800" spc="-1" strike="noStrike">
                <a:solidFill>
                  <a:srgbClr val="555555"/>
                </a:solidFill>
                <a:latin typeface="Arial"/>
              </a:rPr>
              <a:t> </a:t>
            </a:r>
            <a:r>
              <a:rPr b="0" lang="en-GB" sz="3800" spc="-1" strike="noStrike">
                <a:solidFill>
                  <a:srgbClr val="202122"/>
                </a:solidFill>
                <a:latin typeface="Arial"/>
              </a:rPr>
              <a:t>(1755—1843)</a:t>
            </a:r>
            <a:endParaRPr b="0" lang="en-US" sz="3800" spc="-1" strike="noStrike">
              <a:solidFill>
                <a:srgbClr val="000000"/>
              </a:solidFill>
              <a:latin typeface="Arial"/>
            </a:endParaRPr>
          </a:p>
        </p:txBody>
      </p:sp>
      <p:sp>
        <p:nvSpPr>
          <p:cNvPr id="116" name=""/>
          <p:cNvSpPr txBox="1"/>
          <p:nvPr/>
        </p:nvSpPr>
        <p:spPr>
          <a:xfrm>
            <a:off x="457200" y="1417680"/>
            <a:ext cx="8229600" cy="4713120"/>
          </a:xfrm>
          <a:prstGeom prst="rect">
            <a:avLst/>
          </a:prstGeom>
          <a:noFill/>
          <a:ln w="0">
            <a:noFill/>
          </a:ln>
        </p:spPr>
        <p:txBody>
          <a:bodyPr anchor="t">
            <a:normAutofit fontScale="92000"/>
          </a:bodyPr>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Simillimum</a:t>
            </a:r>
            <a:r>
              <a:rPr b="0" lang="en-GB" sz="2400" spc="-1" strike="noStrike">
                <a:solidFill>
                  <a:srgbClr val="555555"/>
                </a:solidFill>
                <a:latin typeface="Arial"/>
              </a:rPr>
              <a:t> (sličnost) – bolest se leči lekom koji izaziva simptome jednake bolesti</a:t>
            </a:r>
            <a:r>
              <a:rPr b="0" lang="sr-Latn-RS" sz="2400" spc="-1" strike="noStrike">
                <a:solidFill>
                  <a:srgbClr val="555555"/>
                </a:solidFill>
                <a:latin typeface="Arial"/>
              </a:rPr>
              <a:t> (</a:t>
            </a:r>
            <a:r>
              <a:rPr b="0" lang="en-GB" sz="2400" spc="-1" strike="noStrike">
                <a:solidFill>
                  <a:srgbClr val="555555"/>
                </a:solidFill>
                <a:latin typeface="Arial"/>
              </a:rPr>
              <a:t>bolest izaziva povišenu temperaturu prepisaće se lek koji pojačava temperaturu</a:t>
            </a:r>
            <a:r>
              <a:rPr b="0" lang="sr-Latn-RS" sz="2400" spc="-1" strike="noStrike">
                <a:solidFill>
                  <a:srgbClr val="555555"/>
                </a:solidFill>
                <a:latin typeface="Arial"/>
              </a:rPr>
              <a:t>)</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Dinamizacija</a:t>
            </a:r>
            <a:r>
              <a:rPr b="0" lang="en-GB" sz="2400" spc="-1" strike="noStrike">
                <a:solidFill>
                  <a:srgbClr val="555555"/>
                </a:solidFill>
                <a:latin typeface="Arial"/>
              </a:rPr>
              <a:t> (razređivanje) – rastvor se razređuje destilovanom vodom ili alkoholom</a:t>
            </a:r>
            <a:r>
              <a:rPr b="0" lang="sr-Latn-RS" sz="2400" spc="-1" strike="noStrike">
                <a:solidFill>
                  <a:srgbClr val="555555"/>
                </a:solidFill>
                <a:latin typeface="Arial"/>
              </a:rPr>
              <a:t>. A</a:t>
            </a:r>
            <a:r>
              <a:rPr b="0" lang="en-GB" sz="2400" spc="-1" strike="noStrike">
                <a:solidFill>
                  <a:srgbClr val="555555"/>
                </a:solidFill>
                <a:latin typeface="Arial"/>
              </a:rPr>
              <a:t>ko je u pitanju tvrda stvar, laktozom u procesu zvanom trituracija. Odnos označava potenciju leka.</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Sukusija</a:t>
            </a:r>
            <a:r>
              <a:rPr b="0" lang="en-GB" sz="2400" spc="-1" strike="noStrike">
                <a:solidFill>
                  <a:srgbClr val="555555"/>
                </a:solidFill>
                <a:latin typeface="Arial"/>
              </a:rPr>
              <a:t> (mešanje) – razređen</a:t>
            </a:r>
            <a:r>
              <a:rPr b="0" lang="sr-Latn-RS" sz="2400" spc="-1" strike="noStrike">
                <a:solidFill>
                  <a:srgbClr val="555555"/>
                </a:solidFill>
                <a:latin typeface="Arial"/>
              </a:rPr>
              <a:t>i r</a:t>
            </a:r>
            <a:r>
              <a:rPr b="0" lang="en-GB" sz="2400" spc="-1" strike="noStrike">
                <a:solidFill>
                  <a:srgbClr val="555555"/>
                </a:solidFill>
                <a:latin typeface="Arial"/>
              </a:rPr>
              <a:t>astvor</a:t>
            </a:r>
            <a:r>
              <a:rPr b="0" lang="sr-Latn-RS" sz="2400" spc="-1" strike="noStrike">
                <a:solidFill>
                  <a:srgbClr val="555555"/>
                </a:solidFill>
                <a:latin typeface="Arial"/>
              </a:rPr>
              <a:t>i </a:t>
            </a:r>
            <a:r>
              <a:rPr b="0" lang="en-GB" sz="2400" spc="-1" strike="noStrike">
                <a:solidFill>
                  <a:srgbClr val="555555"/>
                </a:solidFill>
                <a:latin typeface="Arial"/>
              </a:rPr>
              <a:t>se mešaju velikim brzinama</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Holizam</a:t>
            </a:r>
            <a:r>
              <a:rPr b="0" lang="en-GB" sz="2400" spc="-1" strike="noStrike">
                <a:solidFill>
                  <a:srgbClr val="555555"/>
                </a:solidFill>
                <a:latin typeface="Arial"/>
              </a:rPr>
              <a:t> (celovitost) – homeopate posmatraju čoveka kao celinu i bolest shvataju kao stanje neravnoteže. Lekovima pokušavaju da uspostave ponovo energetsku ravnotežu – homeostazu.</a:t>
            </a:r>
            <a:endParaRPr b="0" lang="en-US" sz="2400" spc="-1" strike="noStrike">
              <a:solidFill>
                <a:srgbClr val="000000"/>
              </a:solidFill>
              <a:latin typeface="Arial"/>
            </a:endParaRPr>
          </a:p>
          <a:p>
            <a:pPr marL="315360" indent="-31536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Samuel Haneman</a:t>
            </a:r>
            <a:r>
              <a:rPr b="0" lang="sr-Latn-RS" sz="3800" spc="-1" strike="noStrike">
                <a:solidFill>
                  <a:srgbClr val="555555"/>
                </a:solidFill>
                <a:latin typeface="Arial"/>
              </a:rPr>
              <a:t>, </a:t>
            </a:r>
            <a:r>
              <a:rPr b="0" lang="en-GB" sz="3800" spc="-1" strike="noStrike">
                <a:solidFill>
                  <a:srgbClr val="555555"/>
                </a:solidFill>
                <a:latin typeface="Arial"/>
              </a:rPr>
              <a:t>Organon</a:t>
            </a:r>
            <a:r>
              <a:rPr b="0" lang="sr-Latn-RS" sz="3800" spc="-1" strike="noStrike">
                <a:solidFill>
                  <a:srgbClr val="555555"/>
                </a:solidFill>
                <a:latin typeface="Arial"/>
              </a:rPr>
              <a:t> </a:t>
            </a:r>
            <a:r>
              <a:rPr b="0" lang="en-GB" sz="3800" spc="-1" strike="noStrike">
                <a:solidFill>
                  <a:srgbClr val="202122"/>
                </a:solidFill>
                <a:latin typeface="Arial"/>
              </a:rPr>
              <a:t>(1755—1843)</a:t>
            </a:r>
            <a:endParaRPr b="0" lang="en-US" sz="3800" spc="-1" strike="noStrike">
              <a:solidFill>
                <a:srgbClr val="000000"/>
              </a:solidFill>
              <a:latin typeface="Arial"/>
            </a:endParaRPr>
          </a:p>
        </p:txBody>
      </p:sp>
      <p:sp>
        <p:nvSpPr>
          <p:cNvPr id="118"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Simillimum (similarity</a:t>
            </a:r>
            <a:r>
              <a:rPr b="0" lang="en-US" sz="2000" spc="-1" strike="noStrike">
                <a:solidFill>
                  <a:srgbClr val="555555"/>
                </a:solidFill>
                <a:latin typeface="Arial"/>
              </a:rPr>
              <a:t>) - the disease is treated with a drug that causes symptoms of the same disease (the disease causes a fever, a drug that increases the fever will be prescribed)</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Dynamization (dilution) </a:t>
            </a:r>
            <a:r>
              <a:rPr b="0" lang="en-US" sz="2000" spc="-1" strike="noStrike">
                <a:solidFill>
                  <a:srgbClr val="555555"/>
                </a:solidFill>
                <a:latin typeface="Arial"/>
              </a:rPr>
              <a:t>- the solution is diluted with distilled water or alcohol. If it is a hard thing, with lactose in a process called trituration. The ratio indicates the potency of the drug.</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Succusion (stirring</a:t>
            </a:r>
            <a:r>
              <a:rPr b="0" lang="en-US" sz="2000" spc="-1" strike="noStrike">
                <a:solidFill>
                  <a:srgbClr val="555555"/>
                </a:solidFill>
                <a:latin typeface="Arial"/>
              </a:rPr>
              <a:t>) - dilute solutions are stirred at high speeds</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Holism (wholeness</a:t>
            </a:r>
            <a:r>
              <a:rPr b="0" lang="en-US" sz="2000" spc="-1" strike="noStrike">
                <a:solidFill>
                  <a:srgbClr val="555555"/>
                </a:solidFill>
                <a:latin typeface="Arial"/>
              </a:rPr>
              <a:t>) - homeopaths look at a person as a whole and understand disease as a state of imbalance. Medicines are used to try to restore the energy balance - homeost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dr. Constantine Hering </a:t>
            </a:r>
            <a:endParaRPr b="0" lang="en-US" sz="3800" spc="-1" strike="noStrike">
              <a:solidFill>
                <a:srgbClr val="000000"/>
              </a:solidFill>
              <a:latin typeface="Arial"/>
            </a:endParaRPr>
          </a:p>
        </p:txBody>
      </p:sp>
      <p:sp>
        <p:nvSpPr>
          <p:cNvPr id="12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55555"/>
                </a:solidFill>
                <a:latin typeface="Arial"/>
              </a:rPr>
              <a:t>a) od gore prema dole</a:t>
            </a:r>
            <a:br>
              <a:rPr sz="3200"/>
            </a:br>
            <a:r>
              <a:rPr b="0" lang="en-GB" sz="3200" spc="-1" strike="noStrike">
                <a:solidFill>
                  <a:srgbClr val="555555"/>
                </a:solidFill>
                <a:latin typeface="Arial"/>
              </a:rPr>
              <a:t>b) iznutra ka spolja</a:t>
            </a:r>
            <a:br>
              <a:rPr sz="3200"/>
            </a:br>
            <a:r>
              <a:rPr b="0" lang="en-GB" sz="3200" spc="-1" strike="noStrike">
                <a:solidFill>
                  <a:srgbClr val="555555"/>
                </a:solidFill>
                <a:latin typeface="Arial"/>
              </a:rPr>
              <a:t>c) iz centra ka periferiji</a:t>
            </a:r>
            <a:br>
              <a:rPr sz="3200"/>
            </a:br>
            <a:r>
              <a:rPr b="0" lang="en-GB" sz="3200" spc="-1" strike="noStrike">
                <a:solidFill>
                  <a:srgbClr val="555555"/>
                </a:solidFill>
                <a:latin typeface="Arial"/>
              </a:rPr>
              <a:t>d) od važnijih prema manje važnim organima </a:t>
            </a:r>
            <a:br>
              <a:rPr sz="3200"/>
            </a:br>
            <a:r>
              <a:rPr b="0" lang="en-GB" sz="3200" spc="-1" strike="noStrike">
                <a:solidFill>
                  <a:srgbClr val="555555"/>
                </a:solidFill>
                <a:latin typeface="Arial"/>
              </a:rPr>
              <a:t>e) u obrnutom redosledu od njihovog nastanka (simptom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dr. Constantine Hering </a:t>
            </a:r>
            <a:endParaRPr b="0" lang="en-US" sz="3800" spc="-1" strike="noStrike">
              <a:solidFill>
                <a:srgbClr val="000000"/>
              </a:solidFill>
              <a:latin typeface="Arial"/>
            </a:endParaRPr>
          </a:p>
        </p:txBody>
      </p:sp>
      <p:sp>
        <p:nvSpPr>
          <p:cNvPr id="122"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Arial"/>
              </a:rPr>
              <a:t>a) from top to bottom b) from the inside to the outside c) from the center to the periphery d) from more important to less important organs e) in the reverse order of their occurrence (sympto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vod</a:t>
            </a:r>
            <a:endParaRPr b="0" lang="en-US" sz="3800" spc="-1" strike="noStrike">
              <a:solidFill>
                <a:srgbClr val="000000"/>
              </a:solidFill>
              <a:latin typeface="Arial"/>
            </a:endParaRPr>
          </a:p>
        </p:txBody>
      </p:sp>
      <p:sp>
        <p:nvSpPr>
          <p:cNvPr id="12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ski pr</a:t>
            </a:r>
            <a:r>
              <a:rPr b="0" lang="en-US" sz="2400" spc="-1" strike="noStrike">
                <a:solidFill>
                  <a:srgbClr val="000000"/>
                </a:solidFill>
                <a:latin typeface="Arial"/>
              </a:rPr>
              <a:t>eparati </a:t>
            </a:r>
            <a:r>
              <a:rPr b="0" lang="bs-BA" sz="2400" spc="-1" strike="noStrike">
                <a:solidFill>
                  <a:srgbClr val="000000"/>
                </a:solidFill>
                <a:latin typeface="Arial"/>
              </a:rPr>
              <a:t>za različite tegobe mogu se po potrebi koristiti zajedno.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koristi prirodne sastojke biljnog, mineralnog i životinjskog po</a:t>
            </a:r>
            <a:r>
              <a:rPr b="0" lang="en-US" sz="2400" spc="-1" strike="noStrike">
                <a:solidFill>
                  <a:srgbClr val="000000"/>
                </a:solidFill>
                <a:latin typeface="Arial"/>
              </a:rPr>
              <a:t>rekla, </a:t>
            </a:r>
            <a:r>
              <a:rPr b="0" lang="bs-BA" sz="2400" spc="-1" strike="noStrike">
                <a:solidFill>
                  <a:srgbClr val="000000"/>
                </a:solidFill>
                <a:latin typeface="Arial"/>
              </a:rPr>
              <a:t>a mogu se koristiti i supstance biološkog i mikrobiološkog po</a:t>
            </a:r>
            <a:r>
              <a:rPr b="0" lang="en-US" sz="2400" spc="-1" strike="noStrike">
                <a:solidFill>
                  <a:srgbClr val="000000"/>
                </a:solidFill>
                <a:latin typeface="Arial"/>
              </a:rPr>
              <a:t>rek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ic preparations for different complaints can be used together if necessar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y uses natural ingredients of plant, mineral and animal origin, and substances of biological and microbiological origin can also be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Kako homeopatija deluje</a:t>
            </a:r>
            <a:endParaRPr b="0" lang="en-US" sz="3800" spc="-1" strike="noStrike">
              <a:solidFill>
                <a:srgbClr val="000000"/>
              </a:solidFill>
              <a:latin typeface="Arial"/>
            </a:endParaRPr>
          </a:p>
        </p:txBody>
      </p:sp>
      <p:sp>
        <p:nvSpPr>
          <p:cNvPr id="128"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Filozofija </a:t>
            </a:r>
            <a:r>
              <a:rPr b="1" lang="bs-BA" sz="2000" spc="-1" strike="noStrike">
                <a:solidFill>
                  <a:srgbClr val="000000"/>
                </a:solidFill>
                <a:latin typeface="Arial"/>
              </a:rPr>
              <a:t>homeopatije- </a:t>
            </a:r>
            <a:r>
              <a:rPr b="0" lang="bs-BA" sz="2000" spc="-1" strike="noStrike">
                <a:solidFill>
                  <a:srgbClr val="000000"/>
                </a:solidFill>
                <a:latin typeface="Arial"/>
              </a:rPr>
              <a:t>um, telo i emocije nisu razdvojeni.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vako iskustvo koje smo imali može ostaviti trag u telu ili emotivnoj sferi.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000" spc="-1" strike="noStrike">
                <a:solidFill>
                  <a:srgbClr val="000000"/>
                </a:solidFill>
                <a:latin typeface="Arial"/>
              </a:rPr>
              <a:t>Homeopatski proces </a:t>
            </a:r>
            <a:r>
              <a:rPr b="0" lang="bs-BA" sz="2000" spc="-1" strike="noStrike">
                <a:solidFill>
                  <a:srgbClr val="000000"/>
                </a:solidFill>
                <a:latin typeface="Arial"/>
              </a:rPr>
              <a:t>počinje razgovorom u kom homeopata postavlja veliki broj pitanja kako bi dobio kompletnu sliku onoga što se događa u telu pacijenta, kako na mentalnom, tako i na telesnom planu. </a:t>
            </a:r>
            <a:br>
              <a:rPr sz="2000"/>
            </a:br>
            <a:br>
              <a:rPr sz="2000"/>
            </a:br>
            <a:br>
              <a:rPr sz="2000"/>
            </a:br>
            <a:r>
              <a:rPr b="0" lang="bs-B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w homeopathy works</a:t>
            </a:r>
            <a:endParaRPr b="0" lang="en-US" sz="3800" spc="-1" strike="noStrike">
              <a:solidFill>
                <a:srgbClr val="000000"/>
              </a:solidFill>
              <a:latin typeface="Arial"/>
            </a:endParaRPr>
          </a:p>
        </p:txBody>
      </p:sp>
      <p:sp>
        <p:nvSpPr>
          <p:cNvPr id="13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losophy of homeopathy - body and emotions are not separated.</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experience we've had can leave a mark in the body or the emotional spher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meopathic process begins with a conversation in which the homeopath asks a large number of questions in order to get a complete picture of what is happening in the patient's body, both mentally and physic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Treba znati da:</a:t>
            </a:r>
            <a:endParaRPr b="0" lang="en-US" sz="3800" spc="-1" strike="noStrike">
              <a:solidFill>
                <a:srgbClr val="000000"/>
              </a:solidFill>
              <a:latin typeface="Arial"/>
            </a:endParaRPr>
          </a:p>
        </p:txBody>
      </p:sp>
      <p:sp>
        <p:nvSpPr>
          <p:cNvPr id="132" name=""/>
          <p:cNvSpPr txBox="1"/>
          <p:nvPr/>
        </p:nvSpPr>
        <p:spPr>
          <a:xfrm>
            <a:off x="457200" y="1599840"/>
            <a:ext cx="8229600" cy="4530600"/>
          </a:xfrm>
          <a:prstGeom prst="rect">
            <a:avLst/>
          </a:prstGeom>
          <a:noFill/>
          <a:ln w="0">
            <a:noFill/>
          </a:ln>
        </p:spPr>
        <p:txBody>
          <a:bodyPr anchor="t">
            <a:normAutofit fontScale="87000"/>
          </a:bodyPr>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leči bolesnika, a ne obolele organe; otklanja uzrok, a ne samo posledice bolesti.</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nastoji da kod bolesne osobe stimuliše lični, prirodni kapacitet samoizlečenja.</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ski lekovi deluju tako da pomažu u samoodbrani organizma. Oni</a:t>
            </a:r>
            <a:br>
              <a:rPr sz="2400"/>
            </a:br>
            <a:r>
              <a:rPr b="0" lang="bs-BA" sz="2400" spc="-1" strike="noStrike">
                <a:solidFill>
                  <a:srgbClr val="000000"/>
                </a:solidFill>
                <a:latin typeface="Arial"/>
              </a:rPr>
              <a:t>nas „pelcuju“ protiv bolesti.</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shvata bolest kao posledicu poremećaja u samom telu. Telo ima prirodnu odbranu koju homeopatski lekovi mogu stimulisati da bi izlečila</a:t>
            </a:r>
            <a:br>
              <a:rPr sz="2400"/>
            </a:br>
            <a:r>
              <a:rPr b="0" lang="bs-BA" sz="2400" spc="-1" strike="noStrike">
                <a:solidFill>
                  <a:srgbClr val="000000"/>
                </a:solidFill>
                <a:latin typeface="Arial"/>
              </a:rPr>
              <a:t>određenu bolest, homeopatija nužno ide do samog njenog izvora.</a:t>
            </a:r>
            <a:br>
              <a:rPr sz="2400"/>
            </a:br>
            <a:r>
              <a:rPr b="0" lang="bs-B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eopathy</a:t>
            </a:r>
            <a:endParaRPr b="0" lang="en-US" sz="4400" spc="-1" strike="noStrike">
              <a:solidFill>
                <a:srgbClr val="000000"/>
              </a:solidFill>
              <a:latin typeface="Arial"/>
            </a:endParaRPr>
          </a:p>
        </p:txBody>
      </p:sp>
      <p:sp>
        <p:nvSpPr>
          <p:cNvPr id="98"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f. Dragana Ignjatović Ristić</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You should know that:</a:t>
            </a:r>
            <a:endParaRPr b="0" lang="en-US" sz="3800" spc="-1" strike="noStrike">
              <a:solidFill>
                <a:srgbClr val="000000"/>
              </a:solidFill>
              <a:latin typeface="Arial"/>
            </a:endParaRPr>
          </a:p>
        </p:txBody>
      </p:sp>
      <p:sp>
        <p:nvSpPr>
          <p:cNvPr id="134"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treats the patient, not the diseased organs; removes the cause, not just the consequences of the disease.</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seeks to stimulate the personal, natural self-healing capacity of the sick person.</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ic medicines work to help the body's self-defense. They "push" us against disease.</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understands disease as a consequence of disorders in the body itself. The body has natural defenses that homeopathic medicines can stimulate to cure a particular disease, homeopathy necessarily goes to its very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ija</a:t>
            </a:r>
            <a:endParaRPr b="0" lang="en-US" sz="3800" spc="-1" strike="noStrike">
              <a:solidFill>
                <a:srgbClr val="000000"/>
              </a:solidFill>
              <a:latin typeface="Arial"/>
            </a:endParaRPr>
          </a:p>
        </p:txBody>
      </p:sp>
      <p:sp>
        <p:nvSpPr>
          <p:cNvPr id="13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nastoji da vrati poremećenu ravnotežu pacijenta upotrebom odgovarajućih prirodnih preparata.</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Otkriva i primenjuje supstance koje su istovetne u rezonancijskim vibracijama tela, pa je potreban minimalni nivo vitalne energije, kako bi telo uopšte moglo da reaguje na homeopatski tret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3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y seeks to restore the disturbed balance of the patient by using appropriate natural preparat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iscovers and applies substances that are identical in resonance vibrations of the body, so a minimum level of vital energy is required, so that the body can respond to homeopathic treatment a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ija</a:t>
            </a:r>
            <a:endParaRPr b="0" lang="en-US" sz="3800" spc="-1" strike="noStrike">
              <a:solidFill>
                <a:srgbClr val="000000"/>
              </a:solidFill>
              <a:latin typeface="Arial"/>
            </a:endParaRPr>
          </a:p>
        </p:txBody>
      </p:sp>
      <p:sp>
        <p:nvSpPr>
          <p:cNvPr id="14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Klasična homeopatija uzima u obzir emocionalna, mentalna i fizička svojstva</a:t>
            </a:r>
            <a:br>
              <a:rPr sz="3200"/>
            </a:br>
            <a:r>
              <a:rPr b="0" lang="bs-BA" sz="3200" spc="-1" strike="noStrike">
                <a:solidFill>
                  <a:srgbClr val="000000"/>
                </a:solidFill>
                <a:latin typeface="Arial"/>
              </a:rPr>
              <a:t>pojedinc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Na osnovu potpune slike odlučuje koji lek treba odabr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4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cal homeopathy takes into account the emotional, mental and physical characteristics of the individual</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e complete picture, he decides which medicine should be cho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a</a:t>
            </a:r>
            <a:endParaRPr b="0" lang="en-US" sz="3800" spc="-1" strike="noStrike">
              <a:solidFill>
                <a:srgbClr val="000000"/>
              </a:solidFill>
              <a:latin typeface="Arial"/>
            </a:endParaRPr>
          </a:p>
        </p:txBody>
      </p:sp>
      <p:sp>
        <p:nvSpPr>
          <p:cNvPr id="14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Uzima u obzir nivo energije pacijenta i način na koji osoba reaguje na okolinu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Arial"/>
              </a:rPr>
              <a:t>Homeopate</a:t>
            </a:r>
            <a:r>
              <a:rPr b="0" lang="bs-BA" sz="2400" spc="-1" strike="noStrike">
                <a:solidFill>
                  <a:srgbClr val="000000"/>
                </a:solidFill>
                <a:latin typeface="Arial"/>
              </a:rPr>
              <a:t> su zainteresovani za razumevanje funkcija na mentalnom, emocionalnom i fizičkom nivou osob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A homeopath</a:t>
            </a:r>
            <a:endParaRPr b="0" lang="en-US" sz="3800" spc="-1" strike="noStrike">
              <a:solidFill>
                <a:srgbClr val="000000"/>
              </a:solidFill>
              <a:latin typeface="Arial"/>
            </a:endParaRPr>
          </a:p>
        </p:txBody>
      </p:sp>
      <p:sp>
        <p:nvSpPr>
          <p:cNvPr id="14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takes into account the patient's energy level and the way the person reacts to the environmen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s are interested in understanding the functions at the mental, emotional and physical levels of a p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Primer</a:t>
            </a:r>
            <a:endParaRPr b="0" lang="en-US" sz="3800" spc="-1" strike="noStrike">
              <a:solidFill>
                <a:srgbClr val="000000"/>
              </a:solidFill>
              <a:latin typeface="Arial"/>
            </a:endParaRPr>
          </a:p>
        </p:txBody>
      </p:sp>
      <p:sp>
        <p:nvSpPr>
          <p:cNvPr id="148"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eispoljeni emocionalni stres može prouzrokovati probleme u imunološkom sistemu, sistemu za varenje i tegobe u spavanju i komunikaciji.</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S druge strane, fizički problemi rezultuju emocionalnim nemirom.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Uopšteno, svi predstavljeni problemi pacijenta, uključujući i bolest kao glavni problem, sklonost određenom ponašanju kao i pacijentove osobine, bitni su simptomi u homeopatskoj analizi. </a:t>
            </a:r>
            <a:br>
              <a:rPr sz="2400"/>
            </a:br>
            <a:r>
              <a:rPr b="0" lang="bs-B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 example</a:t>
            </a:r>
            <a:endParaRPr b="0" lang="en-US" sz="3800" spc="-1" strike="noStrike">
              <a:solidFill>
                <a:srgbClr val="000000"/>
              </a:solidFill>
              <a:latin typeface="Arial"/>
            </a:endParaRPr>
          </a:p>
        </p:txBody>
      </p:sp>
      <p:sp>
        <p:nvSpPr>
          <p:cNvPr id="15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xpressed emotional stress can cause problems in the immune system, the digestive system, and sleep and communication problems.</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physical problems result in emotional turmoil.</a:t>
            </a:r>
            <a:endParaRPr b="0" lang="en-US" sz="24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all presented problems of the patient, including the disease as the main problem, tendency to certain behavior as well as the patient's characteristics, are important symptoms in homeopathic </a:t>
            </a:r>
            <a:r>
              <a:rPr b="0" lang="en-US" sz="3200" spc="-1" strike="noStrike">
                <a:solidFill>
                  <a:srgbClr val="000000"/>
                </a:solidFill>
                <a:latin typeface="Arial"/>
              </a:rPr>
              <a:t>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4000" spc="-1" strike="noStrike">
                <a:solidFill>
                  <a:srgbClr val="000000"/>
                </a:solidFill>
                <a:latin typeface="Arial"/>
              </a:rPr>
              <a:t>Homeopatska metoda</a:t>
            </a:r>
            <a:endParaRPr b="0" lang="en-US" sz="4000" spc="-1" strike="noStrike">
              <a:solidFill>
                <a:srgbClr val="000000"/>
              </a:solidFill>
              <a:latin typeface="Arial"/>
            </a:endParaRPr>
          </a:p>
        </p:txBody>
      </p:sp>
      <p:sp>
        <p:nvSpPr>
          <p:cNvPr id="15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Primenjuje prirodne preparate koji u prirodi izazivaju simptome slične onima koje izazivaju bolest koju želimo izlečiti</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lično se leči sličnim (</a:t>
            </a:r>
            <a:r>
              <a:rPr b="0" lang="bs-BA" sz="3200" spc="-1" strike="noStrike" u="sng">
                <a:solidFill>
                  <a:srgbClr val="000000"/>
                </a:solidFill>
                <a:uFillTx/>
                <a:latin typeface="Arial"/>
              </a:rPr>
              <a:t>Similia Simillubus Curentur</a:t>
            </a:r>
            <a:r>
              <a:rPr b="0" lang="bs-B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Istorija</a:t>
            </a:r>
            <a:endParaRPr b="0" lang="en-US" sz="3800" spc="-1" strike="noStrike">
              <a:solidFill>
                <a:srgbClr val="000000"/>
              </a:solidFill>
              <a:latin typeface="Arial"/>
            </a:endParaRPr>
          </a:p>
        </p:txBody>
      </p:sp>
      <p:sp>
        <p:nvSpPr>
          <p:cNvPr id="10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Hipokrat </a:t>
            </a:r>
            <a:r>
              <a:rPr b="0" lang="ru-RU" sz="3200" spc="-1" strike="noStrike">
                <a:solidFill>
                  <a:srgbClr val="000000"/>
                </a:solidFill>
                <a:latin typeface="Arial"/>
              </a:rPr>
              <a:t> око </a:t>
            </a:r>
            <a:r>
              <a:rPr b="0" lang="ru-RU" sz="3200" spc="-1" strike="noStrike">
                <a:solidFill>
                  <a:srgbClr val="202122"/>
                </a:solidFill>
                <a:latin typeface="Arial"/>
              </a:rPr>
              <a:t>400. </a:t>
            </a:r>
            <a:r>
              <a:rPr b="0" lang="sr-Latn-RS" sz="3200" spc="-1" strike="noStrike">
                <a:solidFill>
                  <a:srgbClr val="202122"/>
                </a:solidFill>
                <a:latin typeface="Arial"/>
              </a:rPr>
              <a:t>godine pre nove ere, propisivanjem male doze korena mandragore za lečenje ludila (znao je da u mnogo većim dozama izaziva ludilo</a:t>
            </a:r>
            <a:r>
              <a:rPr b="0" lang="ru-RU" sz="3200" spc="-1" strike="noStrike" baseline="30000">
                <a:solidFill>
                  <a:srgbClr val="3366cc"/>
                </a:solidFill>
                <a:latin typeface="Arial"/>
              </a:rPr>
              <a:t>[12]</a:t>
            </a:r>
            <a:r>
              <a:rPr b="0" lang="ru-RU" sz="3200" spc="-1" strike="noStrike">
                <a:solidFill>
                  <a:srgbClr val="202122"/>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U</a:t>
            </a:r>
            <a:r>
              <a:rPr b="0" lang="ru-RU" sz="3200" spc="-1" strike="noStrike">
                <a:solidFill>
                  <a:srgbClr val="202122"/>
                </a:solidFill>
                <a:latin typeface="Arial"/>
              </a:rPr>
              <a:t> 16. </a:t>
            </a:r>
            <a:r>
              <a:rPr b="0" lang="sr-Latn-RS" sz="3200" spc="-1" strike="noStrike">
                <a:solidFill>
                  <a:srgbClr val="202122"/>
                </a:solidFill>
                <a:latin typeface="Arial"/>
              </a:rPr>
              <a:t>veku, Paracelzus, začetnik farmakologije, objavio je da čoveka leči ono ono što ga čini bolesnim</a:t>
            </a:r>
            <a:r>
              <a:rPr b="0" lang="ru-RU" sz="3200" spc="-1" strike="noStrike" baseline="30000">
                <a:solidFill>
                  <a:srgbClr val="3366cc"/>
                </a:solidFill>
                <a:latin typeface="Arial"/>
              </a:rPr>
              <a:t>[13]</a:t>
            </a:r>
            <a:r>
              <a:rPr b="0" lang="ru-RU" sz="3200" spc="-1" strike="noStrike">
                <a:solidFill>
                  <a:srgbClr val="202122"/>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ic method</a:t>
            </a:r>
            <a:endParaRPr b="0" lang="en-US" sz="3800" spc="-1" strike="noStrike">
              <a:solidFill>
                <a:srgbClr val="000000"/>
              </a:solidFill>
              <a:latin typeface="Arial"/>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uses natural preparations that in nature cause symptoms similar to those that cause the disease we want to cur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cures like (Similia Simillubus Curent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21"/>
                </a:solidFill>
                <a:latin typeface="Arial"/>
              </a:rPr>
              <a:t>Hahnemann's conceptions, explanations, and appraisals were not static but evolved and hardened over the years, especially from 1796 to 1810. </a:t>
            </a:r>
            <a:endParaRPr b="0" lang="en-US" sz="2400" spc="-1" strike="noStrike">
              <a:solidFill>
                <a:srgbClr val="000000"/>
              </a:solidFill>
              <a:latin typeface="Arial"/>
            </a:endParaRPr>
          </a:p>
        </p:txBody>
      </p:sp>
      <p:pic>
        <p:nvPicPr>
          <p:cNvPr id="157" name="Picture 4" descr=""/>
          <p:cNvPicPr/>
          <p:nvPr/>
        </p:nvPicPr>
        <p:blipFill>
          <a:blip r:embed="rId1"/>
          <a:stretch/>
        </p:blipFill>
        <p:spPr>
          <a:xfrm>
            <a:off x="828720" y="-30240"/>
            <a:ext cx="5973840" cy="2183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Primer</a:t>
            </a:r>
            <a:endParaRPr b="0" lang="en-US" sz="3800" spc="-1" strike="noStrike">
              <a:solidFill>
                <a:srgbClr val="000000"/>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esanica se leči preparatima od crne kafe</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Kijavica, alergija ili prehlada pripravcima od luka (izaziva suzenje očiju i pečenje kao i navedene bolesti)</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osebno, </a:t>
            </a:r>
            <a:r>
              <a:rPr b="1" lang="bs-BA" sz="2400" spc="-1" strike="noStrike">
                <a:solidFill>
                  <a:srgbClr val="000000"/>
                </a:solidFill>
                <a:latin typeface="Arial"/>
              </a:rPr>
              <a:t>homeopata </a:t>
            </a:r>
            <a:r>
              <a:rPr b="0" lang="bs-BA" sz="2400" spc="-1" strike="noStrike">
                <a:solidFill>
                  <a:srgbClr val="000000"/>
                </a:solidFill>
                <a:latin typeface="Arial"/>
              </a:rPr>
              <a:t>u obzir ne uzima samo istoriju bolesti i lokalne simptome, već i razne reakcije pacijenta na boju ili vrućinu, razne vremenske uslo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aother example</a:t>
            </a:r>
            <a:endParaRPr b="0" lang="en-US" sz="3800" spc="-1" strike="noStrike">
              <a:solidFill>
                <a:srgbClr val="000000"/>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omnia is treated with black coffee preparation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eezing, allergy or cold due to onion preparations (causes watery eyes and burning as well as the mentioned disease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rticular, the homeopath takes into account not only the medical history and local symptoms, but also various reactions of the patient to color or heat, various weather condi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Značenje simptoma u homeopatiji</a:t>
            </a:r>
            <a:endParaRPr b="0" lang="en-US" sz="3800" spc="-1" strike="noStrike">
              <a:solidFill>
                <a:srgbClr val="000000"/>
              </a:solidFill>
              <a:latin typeface="Arial"/>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imptomi nisu činilac bolesti, već izraz otpora, nastojanje pogođenog organizma da prevaziđe probleme koji su ga obuzeli</a:t>
            </a:r>
            <a:endParaRPr b="0" lang="en-US" sz="32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imptomi nisu dati nekom unapred određenom bolešću, nego su proizvedeni individualnosti osobe</a:t>
            </a:r>
            <a:br>
              <a:rPr sz="3200"/>
            </a:br>
            <a:br>
              <a:rPr sz="2000"/>
            </a:br>
            <a:r>
              <a:rPr b="0" lang="bs-BA"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eaning of symptoms in homeopathy</a:t>
            </a:r>
            <a:endParaRPr b="0" lang="en-US" sz="3800" spc="-1" strike="noStrike">
              <a:solidFill>
                <a:srgbClr val="000000"/>
              </a:solidFill>
              <a:latin typeface="Arial"/>
            </a:endParaRPr>
          </a:p>
        </p:txBody>
      </p:sp>
      <p:sp>
        <p:nvSpPr>
          <p:cNvPr id="16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ptoms are not the cause of the disease, but an expression of resistance, the effort of the affected organism to overcome the problems that have overtaken i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ymptoms are not given by some predetermined disease, but are produced by the individuality of the p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Arial"/>
              </a:rPr>
              <a:t>Osoba se leči kao celina, a propisani lek deluje ne samo na lokalne simptome, nego i sve druge simptome.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Arial"/>
              </a:rPr>
              <a:t>Pacijenti su često iznenađeni kad prilikom lečenja i izlečenja glavobolje ili zatvora, dođe do izlečenja od stresa, preterane osetljivosti ili nadraženosti.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is treated as a whole, and the prescribed medicine acts not only on local symptoms, but also on all other symptom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s are often surprised when, during the treatment and cure of headache or constipation, there is a cure from stress, excessive sensitivity or irri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Cilj lečenja u homeopatiji</a:t>
            </a:r>
            <a:endParaRPr b="0" lang="en-US" sz="3800" spc="-1" strike="noStrike">
              <a:solidFill>
                <a:srgbClr val="000000"/>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Cilj nije otklanjanje simptoma, nego prepoznavanje i otklanjanje uzroka simptoma.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ravi homeopatski lek je baziran na razumevanju celokupne osobe, radije nego na odgovoru na simptome određene bolesti</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Arial"/>
              </a:rPr>
              <a:t>Homeopate</a:t>
            </a:r>
            <a:r>
              <a:rPr b="0" lang="bs-BA" sz="2400" spc="-1" strike="noStrike">
                <a:solidFill>
                  <a:srgbClr val="000000"/>
                </a:solidFill>
                <a:latin typeface="Arial"/>
              </a:rPr>
              <a:t> prihvataju da organi i funkcije ljudskog tela podležu određenoj hijerarhij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goal of treatment in homeopathy</a:t>
            </a:r>
            <a:endParaRPr b="0" lang="en-US" sz="3800" spc="-1" strike="noStrike">
              <a:solidFill>
                <a:srgbClr val="000000"/>
              </a:solidFill>
              <a:latin typeface="Arial"/>
            </a:endParaRPr>
          </a:p>
        </p:txBody>
      </p:sp>
      <p:sp>
        <p:nvSpPr>
          <p:cNvPr id="173"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is not to eliminate the symptoms, but to recognize and eliminate the cause of the symptom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homeopathic medicine is based on understanding the whole person, rather than responding to the symptoms of a particular diseas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paths accept that the organs and functions of the human body are subject to a certain hierarc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isto</a:t>
            </a:r>
            <a:r>
              <a:rPr b="0" lang="en-US" sz="3800" spc="-1" strike="noStrike">
                <a:solidFill>
                  <a:srgbClr val="000000"/>
                </a:solidFill>
                <a:latin typeface="Arial"/>
              </a:rPr>
              <a:t>ry</a:t>
            </a:r>
            <a:endParaRPr b="0" lang="en-US" sz="3800" spc="-1" strike="noStrike">
              <a:solidFill>
                <a:srgbClr val="000000"/>
              </a:solidFill>
              <a:latin typeface="Arial"/>
            </a:endParaRPr>
          </a:p>
        </p:txBody>
      </p:sp>
      <p:sp>
        <p:nvSpPr>
          <p:cNvPr id="10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ppocrates  around 400 BC, prescribing a small dose of mandrake root to treat insanity (he knew that in much larger doses it caused insanity[12]</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16th century, Paracelsus, the founder of pharmacology, announced that what makes a person sick is what makes him sick.[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Homeopatska konsultacija</a:t>
            </a: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 je potrebno da zna što više o pacijentu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Opšti nivo energije, razvoj simptoma, način živo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Poverljivos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ic consultation</a:t>
            </a:r>
            <a:endParaRPr b="0" lang="en-US" sz="3800" spc="-1" strike="noStrike">
              <a:solidFill>
                <a:srgbClr val="000000"/>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s need to know as much as possible about the patien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energy level, development of symptoms, lifestyl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ti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rva konsultacija obično traje jedan sat, retko duže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Dužina trajanja homeopatskog tretmana zavisi od vrste poremećaja, težini, ali i od ličnim karakteristikama, nivoou energije i slično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otrebno je uzeti u obzir vreme razvoja patologije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Odogovr se očekuje u prvih mesec dana (kod hroničnih simptoma). Kod akutnih- za nekoliko dana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first consultation usually lasts one hour, rarely longer</a:t>
            </a:r>
            <a:endParaRPr b="0" lang="en-US" sz="3800" spc="-1" strike="noStrike">
              <a:solidFill>
                <a:srgbClr val="000000"/>
              </a:solidFill>
              <a:latin typeface="Arial"/>
            </a:endParaRPr>
          </a:p>
        </p:txBody>
      </p:sp>
      <p:sp>
        <p:nvSpPr>
          <p:cNvPr id="181"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ration of homeopathic treatment depends on the type of disorder, its severity, but also on personal characteristics, energy level, etc.</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ecessary to take into account the time of development of the pathology</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is expected within the first month (for chronic symptoms). In acute cases - in a few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4000" spc="-1" strike="noStrike">
                <a:solidFill>
                  <a:srgbClr val="000000"/>
                </a:solidFill>
                <a:latin typeface="Arial"/>
              </a:rPr>
              <a:t>Homeopatija</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Leči iznutra i često, spoljapnji simptomi (kožni simptomi)- posljednji nestaju.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vaki slučaj drugačiji te da ne postoje dva ista pacijent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 je pored medicinske dokumentacije i rezultata dijagnostičkih analiza, neophodno da stekne uvid u psihičko stanje, navike, želje, sklonosti, ponekad i snove pacijent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8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eals from the inside and often, the external symptoms (skin symptoms) are the last to disappear.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ase is different and no two patients are the sam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medical documentation and the results of diagnostic analyses, the homeopath needs to gain insight into the patient's psychological state, habits, desires, preferences, and sometimes dre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400" spc="-1" strike="noStrike">
                <a:solidFill>
                  <a:srgbClr val="000000"/>
                </a:solidFill>
                <a:latin typeface="Arial"/>
              </a:rPr>
              <a:t>ŠTA HOMEOPATA TREBA DA ZNA O PACIJENTU I NJEGOVIM TEGOBAMA?</a:t>
            </a:r>
            <a:endParaRPr b="0" lang="en-US" sz="3400" spc="-1" strike="noStrike">
              <a:solidFill>
                <a:srgbClr val="000000"/>
              </a:solidFill>
              <a:latin typeface="Arial"/>
            </a:endParaRPr>
          </a:p>
        </p:txBody>
      </p:sp>
      <p:sp>
        <p:nvSpPr>
          <p:cNvPr id="187"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U cilju nalaženja pravog sredstva za pacijenta kao jedinstvenu individuu, homeopata treba da sazna mnogo podataka o njemu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Detaljno sagledavanje ličnosti pacijenta, zajedno sa sagledavanjem svih tegoba i načina na koji to doživljava, homeopati su potrebni da bi pravilno procenio slučaj.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Otkrivanje opšteg energetskog stanja pacijenta i njegovih ranijih tegoba važno je koliko i način na koji pacijent živi.</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Tokom intervjua postavljaju se pitanja o naslednim faktorima, opis životne okoline, eventualni kontakti sa raznoraznim opasnim materijalima, sklonosti, uticaj vakcina i ranije preležanih infektivnih bolesti, pojave tokom trudnoće i porođaja, pojava retkih i neuobičajenih stan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8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find the right remedy for the patient as a unique individual, the homeopath needs to know a lot of information about him</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tailed observation of the patient's personality, together with an observation of all the complaints and the way he experiences them, is needed by the homeopath to properly assess the cas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ing the general energy state of the patient and his previous complaints is as important as the way the patient l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interview, questions are asked about hereditary factors, a description of the environment, possible contacts with various dangerous materials, tendencies, the influence of vaccines and previously acquired infectious diseases, occurrences during pregnancy and childbirth, occurrence of rare and unusual condit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3" name=""/>
          <p:cNvSpPr txBox="1"/>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acijent treba da obavesti homeopatu o svim lekovima koja mu je njegov lekar propisao i drugim lekovima i sredstvima koje redovno upotrebljava.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Treba da pomene bilo koju raniju ili predstojeću stomatološku ili neku drugu hiruršku intervenciju.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Iskrenost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ije neophodno, ali je poželjno prikupiti medicinsku dokumentaciju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a poštuje integritet i privatnost ličnosti pacijenta u vezi svega što mu pacijent saopštava u poverenju.</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Često se pacijentima objašnjava da dođu pripremljeni na uzimanje slučaja: da se sete svojih snova, hronologije događanja od ranog detinjstva, povreda, ružnih događaja, teško preležanih bolesti...</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Samjuel Haneman- homeopatija, posebno popularna krajem </a:t>
            </a:r>
            <a:r>
              <a:rPr b="0" lang="ru-RU" sz="3200" spc="-1" strike="noStrike">
                <a:solidFill>
                  <a:srgbClr val="202122"/>
                </a:solidFill>
                <a:latin typeface="Arial"/>
              </a:rPr>
              <a:t>18. </a:t>
            </a:r>
            <a:r>
              <a:rPr b="0" lang="sr-Latn-RS" sz="3200" spc="-1" strike="noStrike">
                <a:solidFill>
                  <a:srgbClr val="202122"/>
                </a:solidFill>
                <a:latin typeface="Arial"/>
              </a:rPr>
              <a:t>vek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Efikasnost homeopatskih preparata objašnjava se činjenicom da su homeopatske bolnice sterilnije od drugih,  za razliku od doktora toga vremena koji su uglavnom činili štetu, homeopate nisu činili ništa</a:t>
            </a:r>
            <a:r>
              <a:rPr b="0" lang="ru-RU" sz="3200" spc="-1" strike="noStrike">
                <a:solidFill>
                  <a:srgbClr val="202122"/>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95"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tient should inform the homeopath about all the medicines prescribed by his doctor and other medicines and means that he uses regularly.</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should mention any previous or upcoming dental or other surgical intervention.</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nesty</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necessary, but it is desirable to collect medical documentation</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meopath respects the integrity and privacy of the patient's personality regarding everything the patient communicates to him in confidence.</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often explained to patients that they should come prepared for taking a case: to remember their dreams, the chronology of events from early childhood, injuries, ugly events, serious illn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Zaključak</a:t>
            </a:r>
            <a:endParaRPr b="0" lang="en-US" sz="3800" spc="-1" strike="noStrike">
              <a:solidFill>
                <a:srgbClr val="000000"/>
              </a:solidFill>
              <a:latin typeface="Arial"/>
            </a:endParaRPr>
          </a:p>
        </p:txBody>
      </p:sp>
      <p:sp>
        <p:nvSpPr>
          <p:cNvPr id="197"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sko lečenje je dobro za stimulisanje  energije  i postizanje  ravnoteže  unutar  našeg  energetskog tela.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Važan dio osjećaja ispunjenosti je pronalaženje osjećaja smisla i svrhe svog života.  Mi smo sviskloni oklijevanju da napravimo zaokret ka potrazi za sopstvenom srećom.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uviše  često  beskonačno  odlažemo  stavljanje  stvari  na  svoje  mesto.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Što  duže  oklevamo,  to  se  više  identifikujemo  sa  negativnim  stanjem  i  teže  ga  se  oslobađamo. </a:t>
            </a:r>
            <a:endParaRPr b="0" lang="en-US" sz="20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a:t>
            </a:r>
            <a:endParaRPr b="0" lang="en-US" sz="3800" spc="-1" strike="noStrike">
              <a:solidFill>
                <a:srgbClr val="000000"/>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ic treatment is good for stimulating energy and achieving balance within our energy bod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mportant part of feeling fulfilled is finding a sense of meaning and purpose in your life. We tend to be reluctant to take a turn towards the pursuit of our own happ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a:t>
            </a:r>
            <a:endParaRPr b="0" lang="en-US" sz="3800" spc="-1" strike="noStrike">
              <a:solidFill>
                <a:srgbClr val="000000"/>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often we endlessly put off putting things in their plac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nger we hesitate, the more we identify with the negative state and the harder it is to get rid of i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122"/>
                </a:solidFill>
                <a:latin typeface="Arial"/>
              </a:rPr>
              <a:t>Samuel Hahnemann - homeopathy, especially popular at the end of the 18th century</a:t>
            </a:r>
            <a:endParaRPr b="0" lang="en-US" sz="3200" spc="-1" strike="noStrike">
              <a:solidFill>
                <a:srgbClr val="000000"/>
              </a:solidFill>
              <a:latin typeface="Arial"/>
            </a:endParaRPr>
          </a:p>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122"/>
                </a:solidFill>
                <a:latin typeface="Arial"/>
              </a:rPr>
              <a:t>The effectiveness of homeopathic preparations is explained by the fact that homeopathic hospitals are more sterile than others, unlike the doctors of that time who mostly did harm, homeopaths did no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Odatle privid efikasnosti u poređenju sa potencijalno štetnim metodama toga vremena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U to vreme nije bilo moderne medicine ili naučne utemljenosti terapij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Danas postoje objektivna merila efikasnosti lekova </a:t>
            </a:r>
            <a:r>
              <a:rPr b="0" lang="ru-RU" sz="3200" spc="-1" strike="noStrike" baseline="30000">
                <a:solidFill>
                  <a:srgbClr val="3366cc"/>
                </a:solidFill>
                <a:latin typeface="Arial"/>
              </a:rPr>
              <a:t>[14][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the appearance of efficiency compared to the potentially harmful methods of the tim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at time, there was no modern medicine or scientific basis for therap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there are objective measures of drug effectiveness [14][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800" spc="-1" strike="noStrike">
                <a:solidFill>
                  <a:srgbClr val="000000"/>
                </a:solidFill>
                <a:latin typeface="Arial"/>
              </a:rPr>
              <a:t>Uvod</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ja je </a:t>
            </a:r>
            <a:r>
              <a:rPr b="0" lang="en-US" sz="2000" spc="-1" strike="noStrike">
                <a:solidFill>
                  <a:srgbClr val="000000"/>
                </a:solidFill>
                <a:latin typeface="Arial"/>
              </a:rPr>
              <a:t>nau</a:t>
            </a:r>
            <a:r>
              <a:rPr b="0" lang="sr-Latn-RS" sz="2000" spc="-1" strike="noStrike">
                <a:solidFill>
                  <a:srgbClr val="000000"/>
                </a:solidFill>
                <a:latin typeface="Arial"/>
              </a:rPr>
              <a:t>čna disciplina kojoj je cilj da</a:t>
            </a:r>
            <a:r>
              <a:rPr b="0" lang="bs-BA" sz="2000" spc="-1" strike="noStrike">
                <a:solidFill>
                  <a:srgbClr val="000000"/>
                </a:solidFill>
                <a:latin typeface="Arial"/>
              </a:rPr>
              <a:t> aktivira imuni sistem i podstakne prirodni kapacitet samoizlečenja i samoodbranu organizma.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ska terapija ne potiskuje simptome kojima se tijelo trudi uspostaviti prirodnu ravnotežu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ja otkriva i primjenjuje supstance koje su istovetne energiji tela, stoga je potrebna minimalna količina vitalne energije kako bi telo moglo da regauje na homeopatski tretman.</a:t>
            </a:r>
            <a:br>
              <a:rPr sz="2000"/>
            </a:br>
            <a:r>
              <a:rPr b="0" lang="bs-B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7:33:49Z</dcterms:created>
  <dc:creator>user</dc:creator>
  <dc:description/>
  <dc:language>en-US</dc:language>
  <cp:lastModifiedBy>Dragana Ignjatovic Ristic</cp:lastModifiedBy>
  <dcterms:modified xsi:type="dcterms:W3CDTF">2024-01-25T09:01:46Z</dcterms:modified>
  <cp:revision>15</cp:revision>
  <dc:subject/>
  <dc:title>Anamneza i klinička slika u homeopatiji</dc:title>
</cp:coreProperties>
</file>